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3DC-EA8C-4E4C-93E4-16CAF29C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3A1-6E73-4FDB-A87F-518C8E5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012-B02D-49CC-8794-66647A68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051-7B4A-4CE3-8546-09EC16CE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B30-1DBC-4BFF-B10C-3F707E0B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1525-9C6D-4963-B6FA-81CE2B89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DDD-602E-41C5-8DB7-123FE267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1276-7E5F-432E-8D93-805BE3F1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7A4E-4F20-46EC-9E95-BFA4456C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F2A-F216-46A0-82DB-808BF929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8129-D804-482A-86D0-BDB30799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495-FCB7-4C66-B6FB-F69E352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73BD-0D29-4559-8318-5E703F7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750-10E1-4C05-B92A-D7B7F1A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BC93-ACD3-4EF3-BE2D-F336DCA1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2715-EAAA-44BF-8736-ED8EE089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76D8-D86F-4A0C-8CE9-FC0F79B8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122-F006-46FD-B574-39F5A642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A35-3FFC-4362-9963-3963FFE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C61-0D8F-484D-A758-90AEA52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132-DDF0-4C96-A3B2-53D1E5EB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86E-BA4E-4FFF-8146-F8AAA3C2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D65-1D41-4321-B372-90140E7D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DAD-1D5B-481B-834B-A6498D56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C69B-2F68-4287-9962-8E1A8296EC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3135-C547-4433-8C37-0D9D84AC92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avel.nationalgeographic.com/places/countries/country_libya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iby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k and K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" descr="Men Dressed In Traditional Libyan Clothes"/>
            <p:cNvPicPr/>
            <p:nvPr/>
          </p:nvPicPr>
          <p:blipFill>
            <a:blip r:embed="rId1"/>
            <a:stretch/>
          </p:blipFill>
          <p:spPr>
            <a:xfrm>
              <a:off x="4648320" y="0"/>
              <a:ext cx="449568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648320" cy="457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Food Market in Tripoli, Libya"/>
            <p:cNvPicPr/>
            <p:nvPr/>
          </p:nvPicPr>
          <p:blipFill>
            <a:blip r:embed="rId3"/>
            <a:stretch/>
          </p:blipFill>
          <p:spPr>
            <a:xfrm>
              <a:off x="0" y="3308400"/>
              <a:ext cx="9144000" cy="354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"/>
              </a:rPr>
              <a:t>Cultur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ocated in the south-western part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by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hat ha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ical desert clim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temperatures in summer often soaring to 50ºC. Today there are no inhabitants, but the structure still rem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poli is Libya's largest city and port, the country's capital and the full-time residence of Colonel Qaddafi. Climate is Mediterranean with hot dry summers, cool winters and some rainfal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arial200.jpg (10863 bytes)"/>
          <p:cNvPicPr/>
          <p:nvPr/>
        </p:nvPicPr>
        <p:blipFill>
          <a:blip r:embed="rId1"/>
          <a:stretch/>
        </p:blipFill>
        <p:spPr>
          <a:xfrm>
            <a:off x="152280" y="144792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93364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24480" y="3772080"/>
            <a:ext cx="2370240" cy="308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2280" y="4343400"/>
            <a:ext cx="3962520" cy="211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2880" y="457200"/>
            <a:ext cx="0" cy="609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travel.nationalgeographic.com/places/countries/country_libya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student.britannica.com/comptons/article-230811/Lib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infoplease.com/ipa/A0107722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tate.gov/r/pa/ei/bgn/5425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bya’s 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in Northwester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-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-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ya's most important natural resource is its petrole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has supplies of natural gas and a huge iron ore depos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Libya’s Land Co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mate &amp; Vege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ers - Hot and 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s - Coo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al 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 – hot during the day, cold at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ach 122 F in desert during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ead of State--Mu'ammar Abu Minyar al-Qadhaf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cretary General of the General People's Committee (Prime Minister)--Dr. Al-Baghdadi Ali al-Mahmudi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cretary of the General People's Committee for Foreign Liaison and International Cooperation (Foreign Minister)--Abd al-Rahman Shalgh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nhabitants - Berber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 by – Oea, Saberatha, Labq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cene of much desert fighting during World War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ities were destroyed by Arabs In the 6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. 23, 1943, it came under Allied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rrent Event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ya’s wireless web access le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nts flock to Libya en route to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BC World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Industry – Largest oil 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Exports –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Literacy Rate – 76.2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 Libyan Dinar = .76 US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ultur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s spoken - Native Arab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7% of people in Libya are Isla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504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0:24Z</dcterms:created>
  <dc:creator>katelynmforbes</dc:creator>
  <dc:description/>
  <dc:language>en-US</dc:language>
  <cp:lastModifiedBy>katelynmforbes</cp:lastModifiedBy>
  <dcterms:modified xsi:type="dcterms:W3CDTF">2009-02-24T14:43:47Z</dcterms:modified>
  <cp:revision>16</cp:revision>
  <dc:subject/>
  <dc:title>Slide 1</dc:title>
</cp:coreProperties>
</file>